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3.wmf" ContentType="image/x-wmf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png" ContentType="image/png"/>
  <Override PartName="/ppt/media/image37.jpeg" ContentType="image/jpeg"/>
  <Override PartName="/ppt/media/image34.png" ContentType="image/png"/>
  <Override PartName="/ppt/media/image12.jpeg" ContentType="image/jpeg"/>
  <Override PartName="/ppt/media/image31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33.png" ContentType="image/png"/>
  <Override PartName="/ppt/media/image3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102475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4D16-0D77-43F9-9D73-B747C4FAD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321E-0362-4188-A85B-0D19072B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245B-5EE5-4909-A250-0CB6DCD7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4562-8B3E-477C-B284-D59279F20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B1EA-1219-4C7A-A68F-F7139622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5595-9E91-464D-9982-09B1F1A1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4284-520E-4D04-9166-B5CC9F6C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1928-8D0C-4FF6-AB68-EC47FDEF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47AA-3438-47E8-8DA3-8B400C6F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8A3A-6C9A-48DC-818D-D8BD8B0E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E408-BC3F-4D98-9416-06093E58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8458-DDCE-4EED-95FE-1D1B6968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167B-41B3-4E1A-9741-118BFB81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D82A-594C-4C06-A331-074668B0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8C45-1422-4E21-B06F-6DBF977F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BF9A-7951-43AA-9590-F53FD6CB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37BD-849F-4228-9F55-962760411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DE8B-01CE-4AC6-B7A6-E0ECF8D0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3319-9E68-4CBC-BB1C-BA1F944C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9BAA-8449-4644-9CF8-260E5111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E7CE-7509-462E-85FE-57052841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2849-0569-4D2D-9562-2C006A29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E5D4-DD23-41AD-9AD8-655D503A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93A7-BBDC-4167-BF01-C550C6AE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AC84-A95E-4890-962A-559FB85E5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B1F9-8701-4095-BF61-8F9A3120C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382680"/>
            <a:ext cx="9144000" cy="6092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4952880"/>
            <a:ext cx="9144000" cy="160020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0" y="303840"/>
            <a:ext cx="9144000" cy="160020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21296" t="8693" r="22313" b="35338"/>
          <a:stretch/>
        </p:blipFill>
        <p:spPr>
          <a:xfrm>
            <a:off x="6934320" y="5105520"/>
            <a:ext cx="2057400" cy="1571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339640"/>
            <a:ext cx="7772400" cy="1469880"/>
          </a:xfrm>
          <a:prstGeom prst="rect">
            <a:avLst/>
          </a:prstGeom>
          <a:solidFill>
            <a:srgbClr val="000000">
              <a:alpha val="50000"/>
            </a:srgbClr>
          </a:solidFill>
          <a:ln w="7632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MS UI Gothic"/>
              </a:rPr>
              <a:t>実験！紙ぶるる</a:t>
            </a:r>
            <a:r>
              <a:rPr b="0" lang="en-US" sz="5400" spc="-1" strike="noStrike">
                <a:solidFill>
                  <a:srgbClr val="ff6600"/>
                </a:solidFill>
                <a:latin typeface="Arial"/>
                <a:ea typeface="MS UI Gothic"/>
              </a:rPr>
              <a:t>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4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MS UI Gothic"/>
              </a:rPr>
              <a:t>名古屋大学　福和研究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515280"/>
          </a:xfrm>
          <a:prstGeom prst="rect">
            <a:avLst/>
          </a:prstGeom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MS UI Gothic"/>
              </a:rPr>
              <a:t>実験開始！その前に・・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MS UI Gothic"/>
              </a:rPr>
              <a:t>紙ぶるるはお手元に完成しています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MS UI Gothic"/>
              </a:rPr>
              <a:t>ここに手を入れて揺すり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MS UI Gothic"/>
              </a:rPr>
              <a:t>まずは屋根、すじかいを付けずに</a:t>
            </a:r>
            <a:br>
              <a:rPr sz="3200"/>
            </a:b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MS UI Gothic"/>
              </a:rPr>
              <a:t>揺すってみましょ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ffffff"/>
                </a:solidFill>
                <a:uFillTx/>
                <a:latin typeface="Arial"/>
                <a:ea typeface="MS UI Gothic"/>
              </a:rPr>
              <a:t>何も付けないときの揺れ方を</a:t>
            </a:r>
            <a:br>
              <a:rPr sz="3200"/>
            </a:br>
            <a:r>
              <a:rPr b="0" lang="ja-JP" sz="3200" spc="-1" strike="noStrike" u="sng">
                <a:solidFill>
                  <a:srgbClr val="ffffff"/>
                </a:solidFill>
                <a:uFillTx/>
                <a:latin typeface="Arial"/>
                <a:ea typeface="MS UI Gothic"/>
              </a:rPr>
              <a:t>よく覚えておいてください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019920" y="5443560"/>
            <a:ext cx="1774080" cy="581400"/>
            <a:chOff x="6019920" y="5443560"/>
            <a:chExt cx="1774080" cy="581400"/>
          </a:xfrm>
        </p:grpSpPr>
        <p:sp>
          <p:nvSpPr>
            <p:cNvPr id="158" name=""/>
            <p:cNvSpPr/>
            <p:nvPr/>
          </p:nvSpPr>
          <p:spPr>
            <a:xfrm>
              <a:off x="6019920" y="5533920"/>
              <a:ext cx="976320" cy="486000"/>
            </a:xfrm>
            <a:prstGeom prst="leftArrow">
              <a:avLst>
                <a:gd name="adj1" fmla="val 50000"/>
                <a:gd name="adj2" fmla="val 50222"/>
              </a:avLst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25480" y="544356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MS UI Gothic"/>
                </a:rPr>
                <a:t>こ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500" autoRev="1" fill="hold"/>
                                        <p:tgtEl>
                                          <p:spTgt spid="1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sp>
          <p:nvSpPr>
            <p:cNvPr id="161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00200" y="0"/>
              <a:ext cx="7543800" cy="1219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2"/>
            <a:srcRect l="21296" t="8693" r="22313" b="35338"/>
            <a:stretch/>
          </p:blipFill>
          <p:spPr>
            <a:xfrm>
              <a:off x="76320" y="76320"/>
              <a:ext cx="1447560" cy="110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MS UI Gothic"/>
              </a:rPr>
              <a:t>屋根が重いと、どうなるの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MS UI Gothic"/>
              </a:rPr>
              <a:t>屋根を付けて揺すってみましょ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MS UI Gothic"/>
              </a:rPr>
              <a:t>揺れの大きさはどうなりました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152280" y="3048120"/>
            <a:ext cx="4264200" cy="3197160"/>
          </a:xfrm>
          <a:prstGeom prst="rect">
            <a:avLst/>
          </a:prstGeom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4648320" y="3048120"/>
            <a:ext cx="4263840" cy="3197160"/>
          </a:xfrm>
          <a:prstGeom prst="rect">
            <a:avLst/>
          </a:prstGeom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8" name=""/>
          <p:cNvSpPr/>
          <p:nvPr/>
        </p:nvSpPr>
        <p:spPr>
          <a:xfrm>
            <a:off x="7315200" y="1523880"/>
            <a:ext cx="1295280" cy="129564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1600" h="21606">
                <a:moveTo>
                  <a:pt x="0" y="0"/>
                </a:moveTo>
                <a:lnTo>
                  <a:pt x="21600" y="0"/>
                </a:lnTo>
                <a:lnTo>
                  <a:pt x="21600" y="21606"/>
                </a:lnTo>
                <a:lnTo>
                  <a:pt x="0" y="21606"/>
                </a:lnTo>
                <a:close/>
              </a:path>
              <a:path fill="lightenLess" w="21600" h="216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6">
                <a:moveTo>
                  <a:pt x="21600" y="0"/>
                </a:moveTo>
                <a:lnTo>
                  <a:pt x="21600" y="21606"/>
                </a:lnTo>
                <a:lnTo>
                  <a:pt x="20200" y="20206"/>
                </a:lnTo>
                <a:lnTo>
                  <a:pt x="20200" y="1400"/>
                </a:lnTo>
                <a:close/>
              </a:path>
              <a:path fill="darkenLess" w="21600" h="21606">
                <a:moveTo>
                  <a:pt x="21600" y="21606"/>
                </a:moveTo>
                <a:lnTo>
                  <a:pt x="0" y="21606"/>
                </a:lnTo>
                <a:lnTo>
                  <a:pt x="1400" y="20206"/>
                </a:lnTo>
                <a:lnTo>
                  <a:pt x="20200" y="20206"/>
                </a:lnTo>
                <a:close/>
              </a:path>
              <a:path fill="lighten" w="21600" h="21606">
                <a:moveTo>
                  <a:pt x="0" y="216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6"/>
                </a:lnTo>
                <a:close/>
              </a:path>
              <a:path fill="darken" w="21600" h="21606">
                <a:moveTo>
                  <a:pt x="3794" y="3797"/>
                </a:moveTo>
                <a:lnTo>
                  <a:pt x="17806" y="10803"/>
                </a:lnTo>
                <a:lnTo>
                  <a:pt x="3794" y="1780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09560" y="6324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MS UI Gothic"/>
              </a:rPr>
              <a:t>屋根の軽い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05240" y="6324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MS UI Gothic"/>
              </a:rPr>
              <a:t>屋根の重い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8680" y="3352680"/>
            <a:ext cx="2133720" cy="99072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62520" y="11430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MS UI Gothic"/>
                <a:ea typeface="MS UI Gothic"/>
              </a:rPr>
              <a:t>Clic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remove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500" autoRev="1" fill="hold"/>
                                        <p:tgtEl>
                                          <p:spTgt spid="1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" dur="1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sp>
          <p:nvSpPr>
            <p:cNvPr id="174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00200" y="0"/>
              <a:ext cx="7543800" cy="1219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2"/>
            <a:srcRect l="21296" t="8693" r="22313" b="35338"/>
            <a:stretch/>
          </p:blipFill>
          <p:spPr>
            <a:xfrm>
              <a:off x="76320" y="76320"/>
              <a:ext cx="1447560" cy="110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MS UI Gothic"/>
              </a:rPr>
              <a:t>バランス悪いと、どうなるの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MS UI Gothic"/>
              </a:rPr>
              <a:t>二階に筋交いを入れてみましょ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MS UI Gothic"/>
              </a:rPr>
              <a:t>揺れ方はどうなりました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152280" y="3048120"/>
            <a:ext cx="4249800" cy="3187440"/>
          </a:xfrm>
          <a:prstGeom prst="rect">
            <a:avLst/>
          </a:prstGeom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4648320" y="3048120"/>
            <a:ext cx="4249440" cy="3187440"/>
          </a:xfrm>
          <a:prstGeom prst="rect">
            <a:avLst/>
          </a:prstGeom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1" name=""/>
          <p:cNvSpPr/>
          <p:nvPr/>
        </p:nvSpPr>
        <p:spPr>
          <a:xfrm>
            <a:off x="7315200" y="1523880"/>
            <a:ext cx="1295280" cy="129564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1600" h="21606">
                <a:moveTo>
                  <a:pt x="0" y="0"/>
                </a:moveTo>
                <a:lnTo>
                  <a:pt x="21600" y="0"/>
                </a:lnTo>
                <a:lnTo>
                  <a:pt x="21600" y="21606"/>
                </a:lnTo>
                <a:lnTo>
                  <a:pt x="0" y="21606"/>
                </a:lnTo>
                <a:close/>
              </a:path>
              <a:path fill="lightenLess" w="21600" h="216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6">
                <a:moveTo>
                  <a:pt x="21600" y="0"/>
                </a:moveTo>
                <a:lnTo>
                  <a:pt x="21600" y="21606"/>
                </a:lnTo>
                <a:lnTo>
                  <a:pt x="20200" y="20206"/>
                </a:lnTo>
                <a:lnTo>
                  <a:pt x="20200" y="1400"/>
                </a:lnTo>
                <a:close/>
              </a:path>
              <a:path fill="darkenLess" w="21600" h="21606">
                <a:moveTo>
                  <a:pt x="21600" y="21606"/>
                </a:moveTo>
                <a:lnTo>
                  <a:pt x="0" y="21606"/>
                </a:lnTo>
                <a:lnTo>
                  <a:pt x="1400" y="20206"/>
                </a:lnTo>
                <a:lnTo>
                  <a:pt x="20200" y="20206"/>
                </a:lnTo>
                <a:close/>
              </a:path>
              <a:path fill="lighten" w="21600" h="21606">
                <a:moveTo>
                  <a:pt x="0" y="216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6"/>
                </a:lnTo>
                <a:close/>
              </a:path>
              <a:path fill="darken" w="21600" h="21606">
                <a:moveTo>
                  <a:pt x="3794" y="3797"/>
                </a:moveTo>
                <a:lnTo>
                  <a:pt x="17806" y="10803"/>
                </a:lnTo>
                <a:lnTo>
                  <a:pt x="3794" y="1780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62960" y="6324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MS UI Gothic"/>
              </a:rPr>
              <a:t>バランスの良い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859000" y="6324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MS UI Gothic"/>
              </a:rPr>
              <a:t>バランスの悪い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7238880" y="4343400"/>
            <a:ext cx="1067040" cy="0"/>
          </a:xfrm>
          <a:prstGeom prst="line">
            <a:avLst/>
          </a:prstGeom>
          <a:ln w="101520">
            <a:solidFill>
              <a:srgbClr val="00ff00"/>
            </a:solidFill>
            <a:prstDash val="sysDot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62520" y="11430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MS UI Gothic"/>
                <a:ea typeface="MS UI Gothic"/>
              </a:rPr>
              <a:t>Clic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remove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500" autoRev="1" fill="hold"/>
                                        <p:tgtEl>
                                          <p:spTgt spid="1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sp>
          <p:nvSpPr>
            <p:cNvPr id="187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00200" y="0"/>
              <a:ext cx="7543800" cy="1219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2"/>
            <a:srcRect l="21296" t="8693" r="22313" b="35338"/>
            <a:stretch/>
          </p:blipFill>
          <p:spPr>
            <a:xfrm>
              <a:off x="76320" y="76320"/>
              <a:ext cx="1447560" cy="110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MS UI Gothic"/>
              </a:rPr>
              <a:t>補強すると、どうなるの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MS UI Gothic"/>
              </a:rPr>
              <a:t>一階にも筋交いを入れてみましょ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MS UI Gothic"/>
              </a:rPr>
              <a:t>補強の効果が実感できます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152280" y="3048120"/>
            <a:ext cx="4249800" cy="3187440"/>
          </a:xfrm>
          <a:prstGeom prst="rect">
            <a:avLst/>
          </a:prstGeom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4648320" y="3048120"/>
            <a:ext cx="4249440" cy="3187440"/>
          </a:xfrm>
          <a:prstGeom prst="rect">
            <a:avLst/>
          </a:prstGeom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4" name=""/>
          <p:cNvSpPr/>
          <p:nvPr/>
        </p:nvSpPr>
        <p:spPr>
          <a:xfrm>
            <a:off x="7315200" y="1523880"/>
            <a:ext cx="1295280" cy="129564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1600" h="21606">
                <a:moveTo>
                  <a:pt x="0" y="0"/>
                </a:moveTo>
                <a:lnTo>
                  <a:pt x="21600" y="0"/>
                </a:lnTo>
                <a:lnTo>
                  <a:pt x="21600" y="21606"/>
                </a:lnTo>
                <a:lnTo>
                  <a:pt x="0" y="21606"/>
                </a:lnTo>
                <a:close/>
              </a:path>
              <a:path fill="lightenLess" w="21600" h="216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6">
                <a:moveTo>
                  <a:pt x="21600" y="0"/>
                </a:moveTo>
                <a:lnTo>
                  <a:pt x="21600" y="21606"/>
                </a:lnTo>
                <a:lnTo>
                  <a:pt x="20200" y="20206"/>
                </a:lnTo>
                <a:lnTo>
                  <a:pt x="20200" y="1400"/>
                </a:lnTo>
                <a:close/>
              </a:path>
              <a:path fill="darkenLess" w="21600" h="21606">
                <a:moveTo>
                  <a:pt x="21600" y="21606"/>
                </a:moveTo>
                <a:lnTo>
                  <a:pt x="0" y="21606"/>
                </a:lnTo>
                <a:lnTo>
                  <a:pt x="1400" y="20206"/>
                </a:lnTo>
                <a:lnTo>
                  <a:pt x="20200" y="20206"/>
                </a:lnTo>
                <a:close/>
              </a:path>
              <a:path fill="lighten" w="21600" h="21606">
                <a:moveTo>
                  <a:pt x="0" y="216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6"/>
                </a:lnTo>
                <a:close/>
              </a:path>
              <a:path fill="darken" w="21600" h="21606">
                <a:moveTo>
                  <a:pt x="3794" y="3797"/>
                </a:moveTo>
                <a:lnTo>
                  <a:pt x="17806" y="10803"/>
                </a:lnTo>
                <a:lnTo>
                  <a:pt x="3794" y="1780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7314840" y="4343400"/>
            <a:ext cx="1066680" cy="0"/>
          </a:xfrm>
          <a:prstGeom prst="line">
            <a:avLst/>
          </a:prstGeom>
          <a:ln w="101520">
            <a:solidFill>
              <a:srgbClr val="00ff00"/>
            </a:solidFill>
            <a:prstDash val="sysDot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7314840" y="5181480"/>
            <a:ext cx="1066680" cy="0"/>
          </a:xfrm>
          <a:prstGeom prst="line">
            <a:avLst/>
          </a:prstGeom>
          <a:ln w="101520">
            <a:solidFill>
              <a:srgbClr val="00ff00"/>
            </a:solidFill>
            <a:prstDash val="sysDot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666880" y="4343400"/>
            <a:ext cx="1067040" cy="0"/>
          </a:xfrm>
          <a:prstGeom prst="line">
            <a:avLst/>
          </a:prstGeom>
          <a:ln w="101520">
            <a:solidFill>
              <a:srgbClr val="00ff00"/>
            </a:solidFill>
            <a:prstDash val="sysDot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66080" y="6324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MS UI Gothic"/>
              </a:rPr>
              <a:t>補強前の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61760" y="6324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MS UI Gothic"/>
              </a:rPr>
              <a:t>補強後の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62520" y="11430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MS UI Gothic"/>
                <a:ea typeface="MS UI Gothic"/>
              </a:rPr>
              <a:t>Clic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remove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500" autoRev="1" fill="hold"/>
                                        <p:tgtEl>
                                          <p:spTgt spid="1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" dur="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rcRect l="13286" t="6613" r="12695" b="4251"/>
          <a:stretch/>
        </p:blipFill>
        <p:spPr>
          <a:xfrm>
            <a:off x="209520" y="152280"/>
            <a:ext cx="8705880" cy="6553440"/>
          </a:xfrm>
          <a:prstGeom prst="rect">
            <a:avLst/>
          </a:prstGeom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MS UI Gothic"/>
              </a:rPr>
              <a:t>被害写真を見てみよ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19051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屋根は重そうですか？軽そうです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一階部分が潰れていません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あなたの家はどうですか？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81640" y="1219320"/>
            <a:ext cx="3762360" cy="56386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419720" y="1219320"/>
            <a:ext cx="2209680" cy="2889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3200400" y="3581280"/>
            <a:ext cx="2185920" cy="32767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0" y="1212840"/>
            <a:ext cx="4419720" cy="29494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0" y="4157640"/>
            <a:ext cx="3232080" cy="2711520"/>
          </a:xfrm>
          <a:prstGeom prst="rect">
            <a:avLst/>
          </a:prstGeom>
          <a:ln w="0">
            <a:noFill/>
          </a:ln>
        </p:spPr>
      </p:pic>
      <p:grpSp>
        <p:nvGrpSpPr>
          <p:cNvPr id="209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sp>
          <p:nvSpPr>
            <p:cNvPr id="210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00200" y="0"/>
              <a:ext cx="7543800" cy="1219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" descr=""/>
            <p:cNvPicPr/>
            <p:nvPr/>
          </p:nvPicPr>
          <p:blipFill>
            <a:blip r:embed="rId7"/>
            <a:srcRect l="21296" t="8693" r="22313" b="35338"/>
            <a:stretch/>
          </p:blipFill>
          <p:spPr>
            <a:xfrm>
              <a:off x="76320" y="76320"/>
              <a:ext cx="1447560" cy="110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MS UI Gothic"/>
              </a:rPr>
              <a:t>実験でわかったこと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UI Gothic"/>
              </a:rPr>
              <a:t>屋根は軽い方がお得であ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UI Gothic"/>
              </a:rPr>
              <a:t>強さのバランスが重要であ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UI Gothic"/>
              </a:rPr>
              <a:t>補強すると家は強くなる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UI Gothic"/>
              </a:rPr>
              <a:t>是非皆さんでやってみてください！</a:t>
            </a:r>
            <a:br>
              <a:rPr sz="32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MS UI Gothic"/>
              </a:rPr>
              <a:t>　使用法・ダウンロード：ぶるるのページ（福和研究室）</a:t>
            </a:r>
            <a:br>
              <a:rPr sz="2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MS UI Gothic"/>
              </a:rPr>
              <a:t>　　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ttp://www.sharaku.nuac.nagoya-u.ac.jp/laboFT/bururu/index.htm</a:t>
            </a:r>
            <a:br>
              <a:rPr sz="1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MS UI Gothic"/>
              </a:rPr>
              <a:t>　購入先：応用地震計測株式会社</a:t>
            </a:r>
            <a:br>
              <a:rPr sz="2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MS UI Gothic"/>
              </a:rPr>
              <a:t>　　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ttp://www.oyosi.co.jp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55520" y="190440"/>
            <a:ext cx="4873680" cy="6477120"/>
          </a:xfrm>
          <a:prstGeom prst="rect">
            <a:avLst/>
          </a:prstGeom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256360" y="2914560"/>
            <a:ext cx="3733560" cy="2800440"/>
          </a:xfrm>
          <a:prstGeom prst="rect">
            <a:avLst/>
          </a:prstGeom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256360" y="190440"/>
            <a:ext cx="3735360" cy="2581200"/>
          </a:xfrm>
          <a:prstGeom prst="rect">
            <a:avLst/>
          </a:prstGeom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18" name=""/>
          <p:cNvSpPr txBox="1"/>
          <p:nvPr/>
        </p:nvSpPr>
        <p:spPr>
          <a:xfrm>
            <a:off x="182880" y="135000"/>
            <a:ext cx="2681640" cy="148212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さあ、耐震補強の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国民運動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5340240" y="5686560"/>
            <a:ext cx="37753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sp>
          <p:nvSpPr>
            <p:cNvPr id="89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00200" y="0"/>
              <a:ext cx="7543800" cy="1219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rcRect l="21296" t="8693" r="22313" b="35338"/>
            <a:stretch/>
          </p:blipFill>
          <p:spPr>
            <a:xfrm>
              <a:off x="76320" y="76320"/>
              <a:ext cx="1447560" cy="110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MS UI Gothic"/>
              </a:rPr>
              <a:t>紙ぶるるを組み立てよう！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MS UI Gothic"/>
              </a:rPr>
              <a:t>１．両面テープを貼り付け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20280" y="3651120"/>
            <a:ext cx="423720" cy="36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MS UI Gothic"/>
              </a:rPr>
              <a:t>写真は製品版の紙ぶるる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857160" y="1422360"/>
            <a:ext cx="3286080" cy="2463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000760" y="1422360"/>
            <a:ext cx="3286080" cy="2463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928960" y="4191120"/>
            <a:ext cx="328608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sp>
          <p:nvSpPr>
            <p:cNvPr id="98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600200" y="0"/>
              <a:ext cx="7543800" cy="1219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rcRect l="21296" t="8693" r="22313" b="35338"/>
            <a:stretch/>
          </p:blipFill>
          <p:spPr>
            <a:xfrm>
              <a:off x="76320" y="76320"/>
              <a:ext cx="1447560" cy="110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MS UI Gothic"/>
              </a:rPr>
              <a:t>紙ぶるるを組み立てよう！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MS UI Gothic"/>
              </a:rPr>
              <a:t>２．すべての部品を切り離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000760" y="4191120"/>
            <a:ext cx="3286080" cy="2463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857160" y="1422360"/>
            <a:ext cx="3286080" cy="2463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857160" y="4191120"/>
            <a:ext cx="3286080" cy="2463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5000760" y="1422360"/>
            <a:ext cx="328608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00200" y="0"/>
              <a:ext cx="7543800" cy="1219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2"/>
            <a:srcRect l="21296" t="8693" r="22313" b="35338"/>
            <a:stretch/>
          </p:blipFill>
          <p:spPr>
            <a:xfrm>
              <a:off x="76320" y="76320"/>
              <a:ext cx="1447560" cy="110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MS UI Gothic"/>
              </a:rPr>
              <a:t>紙ぶるるを組み立てよう！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MS UI Gothic"/>
              </a:rPr>
              <a:t>３．やまおり・たにお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928960" y="4191120"/>
            <a:ext cx="3286080" cy="2463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857160" y="1422360"/>
            <a:ext cx="3286080" cy="2463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5000760" y="1422360"/>
            <a:ext cx="328608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00200" y="0"/>
              <a:ext cx="7543800" cy="1219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2"/>
            <a:srcRect l="21296" t="8693" r="22313" b="35338"/>
            <a:stretch/>
          </p:blipFill>
          <p:spPr>
            <a:xfrm>
              <a:off x="76320" y="76320"/>
              <a:ext cx="1447560" cy="110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MS UI Gothic"/>
              </a:rPr>
              <a:t>紙ぶるるを組み立てよう！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MS UI Gothic"/>
              </a:rPr>
              <a:t>４．両面テープをはが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000760" y="2565360"/>
            <a:ext cx="3286080" cy="2463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857160" y="2565360"/>
            <a:ext cx="328608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sp>
          <p:nvSpPr>
            <p:cNvPr id="12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00200" y="0"/>
              <a:ext cx="7543800" cy="1219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2"/>
            <a:srcRect l="21296" t="8693" r="22313" b="35338"/>
            <a:stretch/>
          </p:blipFill>
          <p:spPr>
            <a:xfrm>
              <a:off x="76320" y="76320"/>
              <a:ext cx="1447560" cy="110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MS UI Gothic"/>
              </a:rPr>
              <a:t>紙ぶるるを組み立てよう！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MS UI Gothic"/>
              </a:rPr>
              <a:t>５．同じ番号同士を貼り付け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57160" y="4191120"/>
            <a:ext cx="3286080" cy="2463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5000760" y="4191120"/>
            <a:ext cx="3286080" cy="2463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857160" y="1422360"/>
            <a:ext cx="3286080" cy="2463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5000760" y="1422360"/>
            <a:ext cx="328608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sp>
          <p:nvSpPr>
            <p:cNvPr id="131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00200" y="0"/>
              <a:ext cx="7543800" cy="1219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2"/>
            <a:srcRect l="21296" t="8693" r="22313" b="35338"/>
            <a:stretch/>
          </p:blipFill>
          <p:spPr>
            <a:xfrm>
              <a:off x="76320" y="76320"/>
              <a:ext cx="1447560" cy="110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MS UI Gothic"/>
              </a:rPr>
              <a:t>紙ぶるるを組み立てよう！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MS UI Gothic"/>
              </a:rPr>
              <a:t>６．屋根をとりつけ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857160" y="1422360"/>
            <a:ext cx="3286080" cy="2463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5000760" y="1422360"/>
            <a:ext cx="3286080" cy="2463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2971800" y="4191120"/>
            <a:ext cx="328608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sp>
          <p:nvSpPr>
            <p:cNvPr id="139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0200" y="0"/>
              <a:ext cx="7543800" cy="1219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2"/>
            <a:srcRect l="21296" t="8693" r="22313" b="35338"/>
            <a:stretch/>
          </p:blipFill>
          <p:spPr>
            <a:xfrm>
              <a:off x="76320" y="76320"/>
              <a:ext cx="1447560" cy="110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MS UI Gothic"/>
              </a:rPr>
              <a:t>紙ぶるるを組み立てよう！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MS UI Gothic"/>
              </a:rPr>
              <a:t>７．筋交いを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MS UI Gothic"/>
              </a:rPr>
              <a:t>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MS UI Gothic"/>
              </a:rPr>
              <a:t>に組み合わせ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857160" y="2565360"/>
            <a:ext cx="3286080" cy="2463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000760" y="2565360"/>
            <a:ext cx="328608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sp>
          <p:nvSpPr>
            <p:cNvPr id="146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0200" y="0"/>
              <a:ext cx="7543800" cy="1219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2"/>
            <a:srcRect l="21296" t="8693" r="22313" b="35338"/>
            <a:stretch/>
          </p:blipFill>
          <p:spPr>
            <a:xfrm>
              <a:off x="76320" y="76320"/>
              <a:ext cx="1447560" cy="110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MS UI Gothic"/>
              </a:rPr>
              <a:t>紙ぶるるを組み立てよう！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MS UI Gothic"/>
              </a:rPr>
              <a:t>８．筋交いを取り付け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857160" y="1422360"/>
            <a:ext cx="3286080" cy="2463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5000760" y="1422360"/>
            <a:ext cx="3286080" cy="2463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>
            <a:lum bright="-12000"/>
          </a:blip>
          <a:stretch/>
        </p:blipFill>
        <p:spPr>
          <a:xfrm>
            <a:off x="857160" y="4191120"/>
            <a:ext cx="3286080" cy="24638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5000760" y="4191120"/>
            <a:ext cx="328608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tsuruta</cp:lastModifiedBy>
  <cp:lastPrinted>2009-04-22T19:24:48Z</cp:lastPrinted>
  <dcterms:modified xsi:type="dcterms:W3CDTF">2006-09-14T08:03:59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